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8A37-C3BB-4DCE-8ADF-867DF4AD15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9E986-B0D7-4A6E-A79D-51BA5D90A5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has a worksheet to go with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2630A-A7A2-4B45-A586-4B434081AF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5A387-87E7-4487-A425-10F4688C4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copy of this selection to have students highlight the Brushstrokes in play from the passage. Discuss other writing techniques such as prepositional phrases; simple, blunt sentences; reflective words (dark as darkness; quite quietly- also alliterative), tone and mood words, and etc. What about the passage adds to the sinking feeling? Discuss the figurative language. Discuss diction: long, deep, lake (as opposed to pond), dangling, limp, lurking, down, dark, roots…. What about dictional paradoxes? – “…he grabbed with this long fingers as quick as thinking.” Ask students why they think the author has a few unorthodox and seemingly caveman-type syntactical structures. “Not he,” and “Goblin he thought good….” What effect do they have on the reader? Talk about how simple, strongly accented consonant, one-syllable adjectives add to the dripping cavern eff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15CD8-E482-466C-BB9D-A312A72CF7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9B350-D14A-45E6-A08D-D117ACE146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BF022-BAD3-463B-AE8B-95909E5433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E1A4-338A-4C69-A254-884D92939B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85E-9044-4100-A8E3-8786F30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A51-F659-47AF-B4FF-BCFD7CA8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482-35DF-4301-912E-3F4544CF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B36-3C72-4BF0-B6A9-CE00DB69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E828-CEC3-471B-A64C-D6BD637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A10-C761-41A5-8613-A79E1B13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44A-0AC8-4C51-A17F-A8A02455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1B5-22D1-4EC4-84DE-5055288D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C34-FBD2-470B-9695-2F7DE67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436-3687-472A-A802-10CE694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F29-13C6-4C39-831E-BFED924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96B-5D3E-488C-84AE-6EFCB45D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3857C-5695-46AF-B814-F6B48DCFB1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879640" y="0"/>
            <a:ext cx="4500720" cy="3780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879640" y="5724360"/>
            <a:ext cx="4859280" cy="1835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944720" y="3995640"/>
            <a:ext cx="738036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Outco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o infer and deduce (read between the lines) the content of a story and to produce an 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To understand the choices writers make about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2519280" y="395280"/>
            <a:ext cx="6875640" cy="4464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is a word that describes a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had a little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grabbed with his long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can come before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 was a small slimy cr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can also be after the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lake was 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of your Brushstroke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write on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bove sentences using a Brushstr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gollum"/>
          <p:cNvPicPr/>
          <p:nvPr/>
        </p:nvPicPr>
        <p:blipFill>
          <a:blip r:embed="rId1"/>
          <a:stretch/>
        </p:blipFill>
        <p:spPr>
          <a:xfrm>
            <a:off x="863640" y="971640"/>
            <a:ext cx="2857320" cy="4048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960720" y="1422360"/>
            <a:ext cx="58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3 minutes to look at the pi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and list adjectives to describ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being shown. Also, list actions that he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write a few sentences describing what the character of Gollum is like. I expect to see at least 3 Brushstrokes in 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60200" y="455760"/>
            <a:ext cx="9723600" cy="661968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ep down here by the dark water lived old Gollum, a small slim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ure.  I don't know where he came from, nor who or what he w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was Gollum - as dark as darkness, except for two big round pa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yes in his thin face.  He had a little boat, and he rowed about qui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ietly on the lake; for lake it was, wide and deep and deadly cold. 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ddled it with large feet dangling over the side, but never a ripple d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 make. Not he. He was looking out of his pale limp-like eyes for bl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sh, which he grabbed with his long fingers as quick as thinking. 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ked meat too. Goblin he thought good, when he could get it; but 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ok care they never found him out. He just throttled them from behind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y ever came down alone anywhere near the edge of the wate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le he was prowling about. They very seldom did, for they had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eling that something unpleasant was lurking down there, down at t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oots of the mount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0" y="4498920"/>
            <a:ext cx="10136160" cy="30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ecide whether the following statements about Gollum are tr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 false.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ite down the statements which you think are truthf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) Gollum lives under wa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b) Gollum rows his boat on the lak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) Gollum has large fe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) Gollum has big dark 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) Gollum doesn't like me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)  Gollum’s character is sca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119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0" y="4427640"/>
            <a:ext cx="10080720" cy="31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ind the words or phrases from the text which sh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) Gollum is mysteri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) the lake is l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) Gollum is careful when ki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hat do each of these phrases mean?- and, analyze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riting technique of ea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) as dark as dark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) as quick as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) Goblin he thought g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0" y="0"/>
            <a:ext cx="10080720" cy="755964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adjectives which describe the following noun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s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               1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"/>
          <p:cNvSpPr/>
          <p:nvPr/>
        </p:nvSpPr>
        <p:spPr>
          <a:xfrm>
            <a:off x="0" y="2484360"/>
            <a:ext cx="10080720" cy="5616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ectives are sometimes used to give a certain feeling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mosphere to a passage.  Look at the adjectives you have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ten dow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hat impression of Gollum do the adjectives give yo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s is an OFFICAL OER!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in complete senten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sure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wer the question directly and affirmativel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k it up with textual support (use direct quot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ment or make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nection past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lack and wh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H” stuff;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nect to s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eper (make a statement abo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manity, literary elements, or somet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ke that)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int: take the adjectives discussed and fur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nect his character to mood and throw in terminology lik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i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n’t you dare start with any of the follow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, be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, beca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th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fee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ole Hyde</cp:lastModifiedBy>
  <dcterms:modified xsi:type="dcterms:W3CDTF">2014-06-09T16:58:08Z</dcterms:modified>
  <cp:revision>13</cp:revision>
  <dc:subject/>
  <dc:title>Slide 1</dc:title>
</cp:coreProperties>
</file>